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292C55A-5C22-4D6A-B25D-D5BD235E0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D8C20B6-A178-444E-8CD5-2394ACDD1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141800" y="9140760"/>
            <a:ext cx="3186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FBFBF46-9BB9-46B7-A274-E6DE002BCB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47760" y="70956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55800" y="4570560"/>
            <a:ext cx="5416560" cy="43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:  __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blem was given to students who had participated in the instructional sequence. Students from two different schools were invited to collaborate on a web-based database to solve a number of generalizing problems. This resulted in a wealth of verbatim notes of student thinking (see following slid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53E5555-232C-4FD9-B046-F4DDBE4C0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141800" y="9140760"/>
            <a:ext cx="3186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0740F3D-E343-4279-845B-0C802D9077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47760" y="70956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5800" y="4570560"/>
            <a:ext cx="5416560" cy="433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iangle dot problem – students recognize the structural similarity of these two problems even though they look different. Students were able to transfer their problem solving 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n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lecting tools and computational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569-4881-476E-81FB-F305C0D4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CBE-E8DA-4262-A20B-19794652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A1F-2BAB-4663-8E04-A31D3765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780-2331-4B62-8D50-3BA6ED62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5C69-B741-4FD4-9938-673186B3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A9C7-5E94-4A1E-A194-27C2BF21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926C-EDB1-48AB-BA4B-7674189D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9834-2FA4-48A7-BF4A-0A8AEE0F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FE6-C0BA-48E5-853D-B7F98A06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7A21-0470-47BE-8B4C-E6A9240A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F84D-0F41-4586-83F4-80669BF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C1D-7403-4C60-9F01-4993F42E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8402-1E55-4625-AB62-9D39796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25C3-0D29-4414-93A3-284A787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CB88-95F6-4183-B8DE-CEBFC610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867F-D18D-4461-80FA-0390EB59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3FE5-8714-460A-B514-FD671706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E9D-E059-44D8-A5BD-C29FFFC9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4C6-8C05-48E3-B4C2-7D6C08C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95E-9B36-4A14-8539-8FBD983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B5A-D597-4EEB-9292-6429B3A8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E68-4568-4852-AC00-0B9FB757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DBE-9F7B-43F5-9159-0D507F7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CBF-BB66-40CB-857D-FDFF9CC5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3AEB-D10B-4D7E-A619-49351FD2D26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C184-8770-4893-88A5-FA2C07D88BF5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B41F-D346-4DFD-9ED8-71819CAA2825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4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Linda LoF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Irene McE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84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469b"/>
                </a:solidFill>
                <a:latin typeface="Arial"/>
              </a:rPr>
              <a:t>Choose 1 of the two problems to solve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2400" y="1542960"/>
            <a:ext cx="4340160" cy="4724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order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3x3 grid of squares has 8 outside squares sh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quares would be shaded for any size gr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3760" y="1560240"/>
            <a:ext cx="4227480" cy="47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riangl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dot triangle has a total of nine d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dots would you need for any size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985680" y="2254320"/>
            <a:ext cx="2110680" cy="2061360"/>
            <a:chOff x="985680" y="2254320"/>
            <a:chExt cx="2110680" cy="2061360"/>
          </a:xfrm>
        </p:grpSpPr>
        <p:sp>
          <p:nvSpPr>
            <p:cNvPr id="120" name="Rectangle 5"/>
            <p:cNvSpPr/>
            <p:nvPr/>
          </p:nvSpPr>
          <p:spPr>
            <a:xfrm>
              <a:off x="985680" y="225432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985680" y="2941560"/>
              <a:ext cx="703440" cy="6868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985680" y="362844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1689120" y="225432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2392920" y="225432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2392920" y="2941560"/>
              <a:ext cx="703440" cy="6868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2392920" y="362844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1689120" y="362844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4"/>
          <p:cNvGrpSpPr/>
          <p:nvPr/>
        </p:nvGrpSpPr>
        <p:grpSpPr>
          <a:xfrm>
            <a:off x="5519880" y="2455920"/>
            <a:ext cx="2031480" cy="1872720"/>
            <a:chOff x="5519880" y="2455920"/>
            <a:chExt cx="2031480" cy="1872720"/>
          </a:xfrm>
        </p:grpSpPr>
        <p:sp>
          <p:nvSpPr>
            <p:cNvPr id="129" name="Oval 5"/>
            <p:cNvSpPr/>
            <p:nvPr/>
          </p:nvSpPr>
          <p:spPr>
            <a:xfrm>
              <a:off x="6390360" y="2455920"/>
              <a:ext cx="290160" cy="26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>
              <a:off x="6100560" y="2892600"/>
              <a:ext cx="289800" cy="26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>
              <a:off x="5810040" y="3427920"/>
              <a:ext cx="29016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>
              <a:off x="5519880" y="4060800"/>
              <a:ext cx="29016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6100560" y="4060800"/>
              <a:ext cx="28980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>
              <a:off x="6680880" y="4060800"/>
              <a:ext cx="28980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7261200" y="4060800"/>
              <a:ext cx="29016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6680880" y="2892600"/>
              <a:ext cx="289800" cy="26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"/>
            <p:cNvSpPr/>
            <p:nvPr/>
          </p:nvSpPr>
          <p:spPr>
            <a:xfrm>
              <a:off x="6970680" y="3427920"/>
              <a:ext cx="29016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904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order Proble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5360" y="5186520"/>
            <a:ext cx="861552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f you had a grid of any number of squares, how many would be sha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090960" y="2068560"/>
            <a:ext cx="2885040" cy="2718720"/>
            <a:chOff x="3090960" y="2068560"/>
            <a:chExt cx="2885040" cy="2718720"/>
          </a:xfrm>
        </p:grpSpPr>
        <p:sp>
          <p:nvSpPr>
            <p:cNvPr id="141" name="Rectangle 5"/>
            <p:cNvSpPr/>
            <p:nvPr/>
          </p:nvSpPr>
          <p:spPr>
            <a:xfrm>
              <a:off x="3090960" y="206856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090960" y="2975040"/>
              <a:ext cx="961560" cy="90576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3090960" y="388080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4052520" y="206856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014440" y="206856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5014440" y="2975040"/>
              <a:ext cx="961560" cy="90576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5014440" y="388080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52520" y="388080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640" y="60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tructural Similarit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9200" y="1734840"/>
            <a:ext cx="57168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This is a 4 dot triangle where each side has 4 dots. It is made using a total of 9 d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6261120" y="1746360"/>
            <a:ext cx="2031480" cy="1682280"/>
            <a:chOff x="6261120" y="1746360"/>
            <a:chExt cx="2031480" cy="1682280"/>
          </a:xfrm>
        </p:grpSpPr>
        <p:sp>
          <p:nvSpPr>
            <p:cNvPr id="152" name="Oval 5"/>
            <p:cNvSpPr/>
            <p:nvPr/>
          </p:nvSpPr>
          <p:spPr>
            <a:xfrm>
              <a:off x="7131600" y="1746360"/>
              <a:ext cx="290160" cy="240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>
              <a:off x="6841800" y="2138400"/>
              <a:ext cx="289800" cy="240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>
              <a:off x="6551280" y="2619720"/>
              <a:ext cx="29016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6261120" y="3188160"/>
              <a:ext cx="29016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6841800" y="3188160"/>
              <a:ext cx="28980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7422120" y="3188160"/>
              <a:ext cx="28980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8002440" y="3188160"/>
              <a:ext cx="29016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7422120" y="2138400"/>
              <a:ext cx="289800" cy="240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7711920" y="2619720"/>
              <a:ext cx="29016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32"/>
          <p:cNvSpPr/>
          <p:nvPr/>
        </p:nvSpPr>
        <p:spPr>
          <a:xfrm>
            <a:off x="431640" y="35812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Century Gothic"/>
              </a:rPr>
              <a:t>The Same Rule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– 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 think that the triangle dot problem rule is the same as the perimeter problem because the corners are overlapping so, it means that the triangle dot problem's rule is x 3 - 3 and the perimeters rule was x 4 -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Homewor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Read the assigned article and be prepared to discuss tomorrow in small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important things about Linear Patterns &amp; Relations I learned today are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evelop an Understanding of how the Big Ideas from Patterning to Algebraic Reasoning connect to Linear Fun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onnect the Mathematical Processes to the Big Ideas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rovide Differentiated Instruc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ffective Use of Technology and Manipula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Questioning to Evoke and Expose Thin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Build a Math-Talk Learning Community (fearless speaking and listen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rovide Assessment for Learning Opportun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Have Fun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l ideas will be listened to carefully and responded to respectfully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veryone will have a voic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l suggestions will be presented with the intent to move the collective forwar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larifying questions are welcom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veryone will engage fully in the momen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uffering is optional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7711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eet and Gree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5320" y="1963800"/>
            <a:ext cx="7893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hare a strategy you have used or would like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o use in the first week of class to help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tudents feel comfortable with sharing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nd talking about mathematics in your classro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ig Ideas from Patterning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o Algebraic Reaso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gebraic reasoning is a process of describing and analyzing (e.g., predicting) generalized mathematical relationships and change using words and symbo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omparing mathematical relationships helps us see that there are classes of relationships and provides insight into each member of the cl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ifferent representations of relationships (e.g. numeric, graphic, geometric, algebraic) highlight different characteristics or behaviours, and can serve different purpo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Limited information about a mathematical relationship can sometimes, but not always, allow us to predict other information about that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ig Ideas fo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Patterns &amp; Rel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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escribing the relationship between two things as a pattern is a foundation to algebraic reason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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he mathematical structure of a linear growing pattern can be represented in different ways (e.g., numeric, graphical, geometric, algebraic).  Different representations highlight different characteristics and can serve different purpo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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Linear growing patterns can be distinguished from other patterns by the way they grow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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wo pieces of information about a linear growing pattern can be sufficient information to fully describe the pattern or func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92320" y="1479600"/>
            <a:ext cx="6924600" cy="5378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hink/Pair/Sha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5040">
              <a:lnSpc>
                <a:spcPct val="10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For each question, identify the 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Big Idea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that it is associated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ith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5040">
              <a:lnSpc>
                <a:spcPct val="10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Record on your pap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1066800">
            <a:off x="512280" y="3428640"/>
            <a:ext cx="1936800" cy="254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35600" y="1949400"/>
            <a:ext cx="2836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8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Connecting Questions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o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ick one question you liked (BLM LGP 1.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hich Big Idea does it fi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Go into four corners for Big Id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Identify your question and complete the statement: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I think this question fits most closely with this Big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Idea because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Now determine which expectations (BLM 1.2) connect to your Big Ideas.  Complete the statement: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connection(s) I see between the overall 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expectations and this  Big Idea is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Shirley Dalrymple</cp:lastModifiedBy>
  <dcterms:modified xsi:type="dcterms:W3CDTF">2009-08-24T18:34:06Z</dcterms:modified>
  <cp:revision>146</cp:revision>
  <dc:subject/>
  <dc:title>Math GAINS 2008-09</dc:title>
</cp:coreProperties>
</file>